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E48-ED35-4E4A-BF59-AD2C7AC2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244-2651-44A5-89C8-855CE62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F9F-50F3-4489-8957-91763839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731-AD57-4FB6-8BB1-2CA61B7D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BBE-377C-4FC2-8957-743696AF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696-F62C-4A6D-874C-780577E8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E31-E1E7-4B51-9CD3-E1E64B8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631-72B2-4C78-A890-3330BDD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69D-79D8-4C09-80E8-B9258CF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C04-DCFD-4F5A-8AA8-856BA1B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C3E-0E40-4F9C-94BA-D3AF4D5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F97-A288-479D-AF92-BB673E5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14AF-9946-4344-B547-26CEAE1F1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уть в волшебную страну начинается от высокой яблон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начала нужно идти к древнему болоту и попросить у водяного пропуск через мостик. Дойти до моста, перейти через него. Затем придется идти в гости к Бабе – Яге, к избушке на курьих ножках. Даст Баба – Яга мешок зерна. Это зерно нужно отнести на мельницу, смолоть. Потом взять муку и отдать ее мышке, что живет в корнях одинокой сосны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т сосны нужно идти в волшебный лес, и передать привет мышкиной сестре. Она скажет заветные слова. Потом дойти до темной пещеры и сказать заветные слова, тут и откроется выход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3985" t="65581" r="75798" b="22643"/>
          <a:stretch/>
        </p:blipFill>
        <p:spPr>
          <a:xfrm>
            <a:off x="250920" y="260280"/>
            <a:ext cx="3500280" cy="3024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8920" y="3033720"/>
            <a:ext cx="57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rcRect l="42952" t="66506" r="47045" b="23253"/>
          <a:stretch/>
        </p:blipFill>
        <p:spPr>
          <a:xfrm>
            <a:off x="4788000" y="260280"/>
            <a:ext cx="3938400" cy="302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rcRect l="67722" t="66555" r="22330" b="23228"/>
          <a:stretch/>
        </p:blipFill>
        <p:spPr>
          <a:xfrm>
            <a:off x="2771640" y="3789360"/>
            <a:ext cx="3598920" cy="277164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469200" y="3033720"/>
            <a:ext cx="57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4243320" y="6058080"/>
            <a:ext cx="574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17606" t="51240" r="71878" b="37446"/>
          <a:stretch/>
        </p:blipFill>
        <p:spPr>
          <a:xfrm>
            <a:off x="324000" y="404640"/>
            <a:ext cx="347976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46160" t="50989" r="43070" b="37879"/>
          <a:stretch/>
        </p:blipFill>
        <p:spPr>
          <a:xfrm>
            <a:off x="4842000" y="277920"/>
            <a:ext cx="3951000" cy="306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rcRect l="71033" t="50699" r="18086" b="37987"/>
          <a:stretch/>
        </p:blipFill>
        <p:spPr>
          <a:xfrm>
            <a:off x="2830680" y="3606840"/>
            <a:ext cx="3846240" cy="299880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1619280" y="29494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6676920" y="3051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4554360" y="602928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15916" t="52023" r="70863" b="30108"/>
          <a:stretch/>
        </p:blipFill>
        <p:spPr>
          <a:xfrm>
            <a:off x="230040" y="260280"/>
            <a:ext cx="2772000" cy="280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rcRect l="42550" t="52505" r="44473" b="30625"/>
          <a:stretch/>
        </p:blipFill>
        <p:spPr>
          <a:xfrm>
            <a:off x="4811760" y="260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68726" t="52466" r="18496" b="30226"/>
          <a:stretch/>
        </p:blipFill>
        <p:spPr>
          <a:xfrm>
            <a:off x="2881440" y="3573360"/>
            <a:ext cx="3035160" cy="308448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1785960" y="2698920"/>
            <a:ext cx="57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7405560" y="2792520"/>
            <a:ext cx="57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5435640" y="5877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6141" t="49877" r="71151" b="34532"/>
          <a:stretch/>
        </p:blipFill>
        <p:spPr>
          <a:xfrm>
            <a:off x="324000" y="260280"/>
            <a:ext cx="3368520" cy="309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42631" t="49321" r="44683" b="33735"/>
          <a:stretch/>
        </p:blipFill>
        <p:spPr>
          <a:xfrm>
            <a:off x="5423040" y="260280"/>
            <a:ext cx="3109680" cy="31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rcRect l="68376" t="49498" r="18647" b="33292"/>
          <a:stretch/>
        </p:blipFill>
        <p:spPr>
          <a:xfrm>
            <a:off x="3083040" y="3386160"/>
            <a:ext cx="3144600" cy="312408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1"/>
          <p:cNvSpPr/>
          <p:nvPr/>
        </p:nvSpPr>
        <p:spPr>
          <a:xfrm>
            <a:off x="2484360" y="2965320"/>
            <a:ext cx="5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7740720" y="300816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5423040" y="58770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839520" y="260280"/>
            <a:ext cx="7764120" cy="6336360"/>
            <a:chOff x="839520" y="260280"/>
            <a:chExt cx="7764120" cy="6336360"/>
          </a:xfrm>
        </p:grpSpPr>
        <p:sp>
          <p:nvSpPr>
            <p:cNvPr id="43" name="Line 3"/>
            <p:cNvSpPr/>
            <p:nvPr/>
          </p:nvSpPr>
          <p:spPr>
            <a:xfrm flipV="1">
              <a:off x="839880" y="5804640"/>
              <a:ext cx="2117160" cy="7920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4"/>
            <p:cNvSpPr/>
            <p:nvPr/>
          </p:nvSpPr>
          <p:spPr>
            <a:xfrm flipH="1" flipV="1">
              <a:off x="839520" y="4220640"/>
              <a:ext cx="2117160" cy="158364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5"/>
            <p:cNvSpPr/>
            <p:nvPr/>
          </p:nvSpPr>
          <p:spPr>
            <a:xfrm flipV="1">
              <a:off x="839880" y="1844640"/>
              <a:ext cx="2117160" cy="23760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2957040" y="1844640"/>
              <a:ext cx="705960" cy="158364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Line 7"/>
            <p:cNvSpPr/>
            <p:nvPr/>
          </p:nvSpPr>
          <p:spPr>
            <a:xfrm flipV="1">
              <a:off x="3663000" y="1052280"/>
              <a:ext cx="2823120" cy="23760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8"/>
            <p:cNvSpPr/>
            <p:nvPr/>
          </p:nvSpPr>
          <p:spPr>
            <a:xfrm flipV="1">
              <a:off x="6486480" y="260280"/>
              <a:ext cx="2117160" cy="7920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8-конечная звезда 1"/>
          <p:cNvSpPr/>
          <p:nvPr/>
        </p:nvSpPr>
        <p:spPr>
          <a:xfrm>
            <a:off x="6346800" y="944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8-конечная звезда 9"/>
          <p:cNvSpPr/>
          <p:nvPr/>
        </p:nvSpPr>
        <p:spPr>
          <a:xfrm>
            <a:off x="731880" y="6489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8-конечная звезда 10"/>
          <p:cNvSpPr/>
          <p:nvPr/>
        </p:nvSpPr>
        <p:spPr>
          <a:xfrm>
            <a:off x="2849400" y="5697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8-конечная звезда 11"/>
          <p:cNvSpPr/>
          <p:nvPr/>
        </p:nvSpPr>
        <p:spPr>
          <a:xfrm>
            <a:off x="2849400" y="1736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8-конечная звезда 12"/>
          <p:cNvSpPr/>
          <p:nvPr/>
        </p:nvSpPr>
        <p:spPr>
          <a:xfrm>
            <a:off x="731880" y="40892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8-конечная звезда 13"/>
          <p:cNvSpPr/>
          <p:nvPr/>
        </p:nvSpPr>
        <p:spPr>
          <a:xfrm>
            <a:off x="8496360" y="15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50760 h 216000"/>
              <a:gd name="textAreaBottom" fmla="*/ 1652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8-конечная звезда 14"/>
          <p:cNvSpPr/>
          <p:nvPr/>
        </p:nvSpPr>
        <p:spPr>
          <a:xfrm>
            <a:off x="3568680" y="3249720"/>
            <a:ext cx="217440" cy="215640"/>
          </a:xfrm>
          <a:custGeom>
            <a:avLst/>
            <a:gdLst>
              <a:gd name="textAreaLeft" fmla="*/ 51120 w 217440"/>
              <a:gd name="textAreaRight" fmla="*/ 166320 w 217440"/>
              <a:gd name="textAreaTop" fmla="*/ 50400 h 215640"/>
              <a:gd name="textAreaBottom" fmla="*/ 1652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Граф.</a:t>
            </a: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Построение  графов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Граф состоит из 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рёбер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верши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уть в волшебную страну начинается от высокой яблон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начала нужно идти к древнему болоту и попросить у водяного пропуск через мостик. Дойти до моста, перейти через него. Затем придется идти в гости к Бабе – Яге, к избушке на курьих ножках. Даст Баба – Яга мешок зерна. Это зерно нужно отнести на мельницу, смолоть. Потом взять муку и отдать ее мышке, что живет в корнях одинокой сосны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т сосны нужно идти в волшебный лес, и передать привет мышкиной сестре. Она скажет заветные слова. Потом дойти до темной пещеры и сказать заветные слова, тут и откроется выход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десь тесно как в норке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Темно, как в колодце.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Увижу ль когда – нибудь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Милое солнце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785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Если друг с тобою рядом,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Веселей и легче жить.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Вместе всё преодолеем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Нужно дружбой дорожить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Домашняя работа:</a:t>
            </a:r>
            <a:br>
              <a:rPr sz="4800"/>
            </a:br>
            <a:br>
              <a:rPr sz="4800"/>
            </a:br>
            <a:r>
              <a:rPr b="1" lang="ru-RU" sz="9600" spc="-1" strike="noStrike">
                <a:solidFill>
                  <a:srgbClr val="c00000"/>
                </a:solidFill>
                <a:latin typeface="Calibri"/>
              </a:rPr>
              <a:t>с. 17 №29</a:t>
            </a:r>
            <a:br>
              <a:rPr sz="9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67279" t="65010" r="16923" b="14163"/>
          <a:stretch/>
        </p:blipFill>
        <p:spPr>
          <a:xfrm>
            <a:off x="6588000" y="4471920"/>
            <a:ext cx="2341800" cy="23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rcRect l="14583" t="64045" r="69715" b="15246"/>
          <a:stretch/>
        </p:blipFill>
        <p:spPr>
          <a:xfrm>
            <a:off x="166680" y="4437000"/>
            <a:ext cx="2327400" cy="23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rcRect l="41317" t="64045" r="43144" b="15246"/>
          <a:stretch/>
        </p:blipFill>
        <p:spPr>
          <a:xfrm>
            <a:off x="3200400" y="4437000"/>
            <a:ext cx="2303640" cy="23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rcRect l="30248" t="16481" r="31706" b="37707"/>
          <a:stretch/>
        </p:blipFill>
        <p:spPr>
          <a:xfrm>
            <a:off x="2050920" y="115920"/>
            <a:ext cx="504216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1:58:26Z</dcterms:created>
  <dc:creator>Админ</dc:creator>
  <dc:description/>
  <dc:language>en-US</dc:language>
  <cp:lastModifiedBy>Админ</cp:lastModifiedBy>
  <dcterms:modified xsi:type="dcterms:W3CDTF">2014-02-16T11:20:32Z</dcterms:modified>
  <cp:revision>5</cp:revision>
  <dc:subject/>
  <dc:title>Путь в волшебную страну начинается от высокой яблони.  Сначала нужно идти к древнему болоту и попросить у водяного пропуск через мостик. Дойти до моста, перейти через него. Затем придется идти в гости к Бабе – Яге, к избушке на курьих ножках. Даст Баба – Яга мешок зерна. Это зерно нужно отнести на мельницу, смолоть. Потом взять муку и отдать ее мышке, что живет в корнях одинокой сосны.   От сосны нужно идти в волшебный лес, и передать привет мышкиной сестре. Она скажет заветные слова. Потом дойти до темной пещеры и сказать заветные слова, тут и откроется выход.</dc:title>
</cp:coreProperties>
</file>